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CF0-EB28-48D8-969A-D768BB4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6C8-01A5-43DC-9654-22C96A3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FCB-5F6A-4387-A3B4-CA4064AA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0C6-C5A7-4683-9610-DB4984D3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1E8-F435-49D4-919A-CB7E52DE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7A00-115A-46E0-AC9E-D8CF8FF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262-FA52-42D7-9811-06590DC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5AAF-8218-49A5-9145-7D77DBF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ED0A-AF2B-4D21-B916-2234F308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9BDD-9E94-4B8C-A702-D347ADD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F78-568E-43A7-BB62-65D4BB9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5E4-CDD1-47A1-B1B7-1BFEBCF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BBC-EA2B-4657-BF7C-5D8B53E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9CDA-B2ED-41AB-8B61-7B52265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70F2-00AC-4358-87FE-A1FEF0B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A3B1-2E21-45C4-9772-DB41F7DC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EA5C-D5A1-4761-AD0C-ECFBA5DD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B0D-77BE-4181-8F8B-BFCC76E4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8A5-2853-4BFB-8B81-397C7FDB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404-CFA9-4302-BA20-7DE5411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D42-5C93-488A-89F2-E4E0A09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29B-594D-4193-ABA2-591B0FA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B94-CDA9-4E66-A600-BC3B825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219-C25B-4674-9E26-CDB2E2C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282-ED57-4EAC-B50D-58AD3295A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CB0D-D839-4162-85CE-63FE96E8C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lgebra 2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9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ational func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(x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P and Q are polynomials are Q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≠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of the following are rational func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2x+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3x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imes New Roman"/>
                <a:ea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-2x+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x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 3√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mplifying rational func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+2x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makes the denominator equal zero?   This represents a hole in the 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simplif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x+1) (x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ug the “hole” into the simplified expression to find its ordered 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 +1 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dered pair is (-1,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aphing a rational fun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+2x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ied: x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the hole?   Mark the hole on the graph with an open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868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 rational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ittle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ion: a combination of numbers and mathematical operations that does not contain an equal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: an equation for which each input has one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ional: the ratio of two integers (for numbers), the ratio of two polynomials (for expressions or fun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: non-reducibl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at makes an expression undefined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 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a fraction undefined?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must the denominator equ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5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expression is undefined when x=5 be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un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 BY ZERO MAKES AN EXPRESSION UN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you evaluate a rational expressio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x 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expression above for x=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g 4 in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(4)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calculator, key in “3 * 4 / (2 * 4 -5)” and press 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nswer is 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mplifying rational expres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amental principle of rational expr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≠0 and R≠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, when faced with a rational expression, look for a common factor in order to simplif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s the common fact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3 *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 *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5     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simplify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4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x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x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x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x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mething to help you fact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b = -(-a+b) = -(b-a) = -1(b-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-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(b-a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x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teps for simplifying any rational express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ly factor both the numerator and the denomin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the numerator and denominator by all common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lting expression will be in the simplest form (in the lowest term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37:55Z</dcterms:created>
  <dc:creator>nuhs</dc:creator>
  <dc:description/>
  <dc:language>en-US</dc:language>
  <cp:lastModifiedBy>nuhs</cp:lastModifiedBy>
  <dcterms:modified xsi:type="dcterms:W3CDTF">2007-09-19T20:37:03Z</dcterms:modified>
  <cp:revision>14</cp:revision>
  <dc:subject/>
  <dc:title>Algebra 2A</dc:title>
</cp:coreProperties>
</file>